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754-0A92-4400-9A84-E8632626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88F-0FE1-4716-BC31-D54D459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CCA2-F5AA-48A3-B0F7-506D2E53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4DCBB-018C-4A71-AFB0-57D9F306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9CF21-661D-4FE4-9EDE-38ED15A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F600-FC41-4FDC-A9FF-15C05B2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06D9-29CB-4098-B0B1-DB90FBE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744B-C009-42BB-B063-EA54D7A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43A23-AF67-4D73-9264-E409C139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9EBAB-2FE0-4427-AF4D-AAC9B45F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139A-B536-455C-94D5-641EC053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745D3-5918-4138-AAA3-97224619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7D7-2D4B-4FFF-BDDE-5CB82768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790A8-22B7-4F93-A5F9-239DB52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8C0F5-B42B-4F5B-A67D-1842169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343B-230C-4326-A586-49B7DB0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D388-0D02-404D-8234-F0D7859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61F3C-FDE0-4B37-BBF1-F5DB10A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7B497-61C0-4A60-841E-1C54BB6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CD3FB-3DC9-4918-9C0F-0CBE64C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90015-03D0-4DC9-8BA5-C46203E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E467C-3470-47B5-BED3-C853A03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987C1-ED32-4543-9F8B-4257BEFA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7BA-E4A2-4D0E-89D4-6C05F8D6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47A33-8013-48AC-9548-43BADBA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78E7D-8929-43A5-86DB-229EFB6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B0DC-4201-470E-937D-B7D175F2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B6B76-D9E4-4AC9-8B18-90DADA56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AFC1-6C4D-4372-B10B-0B290083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30428-B616-4F4B-86C0-7F63BA9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46C6-F903-4860-90C8-5C083A7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16689-B93F-4E09-880A-B109A07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68E3-A1F4-47A6-B59C-4C5C14F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E44A6-ABF9-4D55-B285-FDF944C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309-63FD-4AE1-A28A-2F72C7C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1D53-6491-4D31-9C5F-CA24FC2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4BC6A-427D-43B4-8CD0-AF30DC56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6E808-8FBD-4C6A-A8BD-2A033706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508BF-90AE-4F8E-8949-16493A69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601BB-CD04-4387-85BB-6B4161B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B2E52-397F-4FDB-953C-BF7D74A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AD4B3-0CF8-4A06-94AD-6E928185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C66B9-E1FD-4EF5-A3A3-22749135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69812-86C2-43E0-A4DC-7E07783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06EB2-14EA-4FA7-8A55-39197A6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32C3-E5B8-4D3A-8D9A-14241838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2C480-DAFE-4FC6-8622-D84871D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61360-5A8C-4E47-948D-F05C246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5B8C5-8AF3-49F5-AC0A-8263C917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64EB7-8C4C-49D6-AE42-23C551FD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1A9C3-46B8-46DC-AF77-2D8F6604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077-AE38-4D50-8BFB-211ABD4E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AD7A-42E3-462A-A080-E55F8C0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0E7F-DA69-4C49-93A1-0BF5C03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CC62-9B28-49CB-93A3-F572AE9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B88-7665-46EA-8CB2-924EB58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D36-2258-42F1-9372-1BCE8063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CD2-7B5C-4F7A-93E1-0498D84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98A8-FCA5-4EDF-AEEC-39A170D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4314-FDFB-4D59-B69D-0B0D683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999A-6EBC-4D2D-A5C2-DCA1B9F6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DC04-953F-4A7A-A1F2-03B4888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8521-1D55-4FD5-8E5A-95BAF36B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D053-A5E8-491E-931F-32DD9EB7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7E29-4E76-43EF-92C2-83B82257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B2B2-424E-4340-AF69-8F70D48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793C-12E2-404F-8EA4-C9C3C121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07C-0188-449A-96FE-89387663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2B8F-02BB-4133-8081-DD58D096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8671-2F5C-4776-B5D4-04368D7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BCDB-6997-4B7B-9D96-536B113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C3BC-C746-4F53-8564-1B5DC89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192F-93F8-4A0D-B6B9-BAAB8E0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9232-49E4-443C-AE0F-2B5EAE8D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0742-BFDD-4D98-A101-6229E9D4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2450-25B5-4BCD-9C58-388E234D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8BCD-39B7-4CA7-92B8-47D1B05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4CF7-1D3C-4292-A9FF-AEE9FB6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5BD-7C05-4938-8C83-4DCE6371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66D8-9AD3-4ECE-B4F5-B8D3C31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5D8A-F614-49D7-8CD3-9220BE72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FFEB-7FA1-4F20-808C-F49CD9C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4309-A807-4D06-B6D8-C62C51A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3C28-8F31-4664-B02D-73CE557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72C2-6A0A-489D-BFCB-1D5D4A8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6A32-88E3-4745-BDF7-4C44A84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D937-4D21-4CDB-9F71-3BEDE9D9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3E2B-674A-4CC8-B7AB-A600F85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57B0-A400-49F9-8F53-7C4CF91C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FBE-C4C5-4956-8538-59D90913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6021-91AE-4147-BAED-758252C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E7A8-D842-42DA-9304-7D308FA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1C3E-819A-4BC0-9F24-8532486C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EAD1-0410-4383-BB5A-E684272D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BC9A-A27D-4E99-B6FC-7986F9A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A14C-9FCB-4CF4-9046-FA7FC566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FDF5-B198-4E6D-AE37-9D15223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217C-C35E-4429-9A52-DFB804D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7930-DE97-41B0-8C82-9CAE262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B612-C8EE-4DCD-BA76-740A9394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197-6122-4165-A603-675BBB0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0E98-AD19-419E-B4C9-F4E16781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4081-37D3-40E7-ABFF-90E469A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B753-74DF-49D6-8486-4F791F26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44EC-E2B1-4320-9FC4-AD87BD3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5C85-1880-4F71-8CF5-29E87E2B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D236-835C-4941-9B7E-C06258A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078D-0625-44BC-87DE-E1DD00F6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3798-D1EA-4E2B-A0D1-3F78AAC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38D6-C301-417B-91ED-C677D30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7A26-C1B4-4315-9632-1B0A159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3BD-77DA-4B21-BB4D-E5BFC2F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8D44-5BB9-434C-95B8-5363537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5535-90C4-49B7-BE60-50A36268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15D7-4401-477E-A2B3-0D6FC1DC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34C1-F301-423D-A1AB-27BCFBCF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21CA-9A1E-4F87-91B8-437196C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2252D-9633-48AC-AD0B-A52171F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EB63-A6A2-44E8-B3CA-D2C34341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92BF-C7C5-40B5-8D0C-94D5919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ED6A4-DC49-44B2-922E-A2639F0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F6A0E-9842-4EE2-9858-5C739B3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A47-735E-4D57-8AF7-0F93FE2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201E-A5A2-434E-948F-AC62A68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8A07-EEB3-4314-85BD-D7152CF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8104-9E70-4E69-B46A-3C885B1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A2F4-3761-4119-B497-4BBE12A9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1EC3-1FFD-48BB-849A-E905DFAC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FA75-9905-480F-8769-69311593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0BD96-DFE1-40A4-9B55-0ECB0762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AB3F-17EB-43B0-9602-0B710D7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EDF9A-8A2D-4C51-A0F4-0EDE935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332D-C7FC-4AAF-A921-0D5D5E40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784-4487-4FB1-BD40-23EFCAF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A0FF8-EA36-4214-B56A-F94AEBA3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918B-4CB2-4936-8434-4C277F5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243A2-EB00-4F80-9556-E7A1A9A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64E42-DE70-4793-B7CB-C3C8A9F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73EE-1AE7-45BB-8F80-BDFB16CC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D301E-0365-465F-8D11-7BD44F71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541A-DFB5-4B6E-BB57-565E7F68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5FF35-520F-484D-835F-A874A85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4438-6CBC-47C8-87AA-8272259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FE99E-0576-466A-A51E-EBAF8FE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0FB-CC8A-4CC3-AC29-87B7DA6BF1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84B9-5F94-4EAE-8792-4196FDCBBA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F8E-7619-4D1A-A538-24ACDC0B5E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857-3E2F-4EDE-BF3C-955C363627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0BAF-5D15-4EF7-9E38-9D5EAC30F6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A8B1-17EC-44AD-9B4F-44705D0F89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527-B8F8-48F2-90A4-52315E9E82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5DC8-5DF8-4188-858D-DC83EBFCFE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16C-3F8E-4122-8D6D-B2405E105B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1CB-EFEC-4F06-A97E-3632BF0428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F44-F07E-43C1-AD0E-5F549B8BD4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A28-583F-4D36-801A-36FC7F801F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6 Len v teb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spásy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spásy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 k t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svoj upier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viň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viň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u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 ochran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ím vždy buď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sve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údil som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ietaný búrka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t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lásky tvojej žiari mi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bez teba, môj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chcem byť.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poblúd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zo mňa zm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ľavu výčitiek sám utíš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môjho usmerňuj b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nech i ja smiem uzr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a breh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04:12Z</dcterms:modified>
  <cp:revision>22</cp:revision>
  <dc:subject/>
  <dc:title>Je veľký náš Pán, on slávy je Kráľ Nech do všetkých strán  spev vrúcnych znie chvál.</dc:title>
</cp:coreProperties>
</file>